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12651-02FF-4643-B172-38671A1A8F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nowy owls Artic Tund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conda. Found in the thick forests of 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 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pero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ose Artic Tund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gar l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oad runner North Americ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mur from Madagasc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BED5-6D06-4105-8222-7CCB3861E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14DA-0578-44A6-BDF5-A6FD49DC3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DB23-2545-4E79-85D0-E9A07080A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5ED1-9F82-41BF-BF72-7D18D440B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AFFF-6F09-4D04-AA56-581439720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67F3-FA48-44FF-A4EB-69A16273A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4A35-F86F-4F6C-B56A-ADDFBEA59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8E11-906C-4346-AF20-CCE0DC2DF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FF73-E480-412E-B598-ED90FDF12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6180-7A99-4FBD-896B-C9DC6333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FE83-F365-48A5-BACC-E67A5D85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CA76-7B39-46D9-952B-7EAE5CBD9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C5A89-8B09-48AC-8192-992F62DCAF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Do these animals live in a hot or a cold place.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dminster Down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ce Facul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71640" y="260280"/>
            <a:ext cx="1201680" cy="1800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588000" y="5084640"/>
            <a:ext cx="2305080" cy="1536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539640" y="3933720"/>
            <a:ext cx="1600200" cy="24004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012000" y="620640"/>
            <a:ext cx="23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B1b 5.1 Adaptation in anima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411280" y="333360"/>
            <a:ext cx="388800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snowy owl"/>
          <p:cNvPicPr/>
          <p:nvPr/>
        </p:nvPicPr>
        <p:blipFill>
          <a:blip r:embed="rId1"/>
          <a:stretch/>
        </p:blipFill>
        <p:spPr>
          <a:xfrm>
            <a:off x="0" y="-476280"/>
            <a:ext cx="9144000" cy="904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yellow anaconda"/>
          <p:cNvPicPr/>
          <p:nvPr/>
        </p:nvPicPr>
        <p:blipFill>
          <a:blip r:embed="rId1"/>
          <a:stretch/>
        </p:blipFill>
        <p:spPr>
          <a:xfrm>
            <a:off x="93600" y="-1179360"/>
            <a:ext cx="8047080" cy="828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626436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emperor goose"/>
          <p:cNvPicPr/>
          <p:nvPr/>
        </p:nvPicPr>
        <p:blipFill>
          <a:blip r:embed="rId1"/>
          <a:stretch/>
        </p:blipFill>
        <p:spPr>
          <a:xfrm>
            <a:off x="0" y="-1227240"/>
            <a:ext cx="9396360" cy="915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633760" y="571680"/>
            <a:ext cx="3876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684360" y="0"/>
            <a:ext cx="9828360" cy="704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633760" y="571680"/>
            <a:ext cx="3876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ring-tailed lemur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955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1T21:16:18Z</dcterms:created>
  <dc:creator>John</dc:creator>
  <dc:description/>
  <dc:language>en-US</dc:language>
  <cp:lastModifiedBy>stbanksg</cp:lastModifiedBy>
  <dcterms:modified xsi:type="dcterms:W3CDTF">2006-12-11T09:36:10Z</dcterms:modified>
  <cp:revision>5</cp:revision>
  <dc:subject/>
  <dc:title>Do these animals live in a hot or a cold place.?</dc:title>
</cp:coreProperties>
</file>